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B80-B1F8-4A09-A8FA-43B2C7AD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EB99-E142-4FD3-B693-573CF8EF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0F4-6043-4B2E-8D05-DB083B53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882-48D8-4738-B1C3-71ACC05D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9241-893E-447A-A397-8DC280BC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8AB5-78AB-45F2-A7FA-21F5E68F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1C24-5AE4-4453-A2EF-9F96BDC7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6E93-A095-4C73-AE9E-EA999019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F809-233A-40E2-B7F3-783998B4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0FA8-3153-477B-8DF5-2CBC9192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E892-11EE-42E1-B17A-804FC725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227F-ECF2-4A8D-B8AF-F38DE670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F400-AC68-432F-94C1-791F4E22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0A49-389B-42F9-AE62-1F94939E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F265-8277-4356-B963-A08BF7FD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A8C4-93EF-42FD-A564-DC132E6C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2C13-A474-4096-9DE1-AC289CD3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C1B9-734F-477B-B789-B6349569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D87B-E1B6-4025-9334-5141C575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95B6-42AC-40DF-B79A-9A89563D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46A7-CF25-42E5-A33B-F7546D92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5BA-0917-4C61-A946-1DAF99DC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5D8-C7E3-456A-9C21-CCD5D203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5BE7-8488-440A-BEB5-5FA773CE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BEC6-FF69-4738-8821-094A6719B9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3828-C816-476E-8A4F-3A8B57D6F1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lcome to English Commun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457200" y="1417680"/>
            <a:ext cx="82296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довжуємо??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994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807552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ліцтурнір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Чим такий пам'ятний для Лондона 1666р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Музикальний інструмент, який представляє собою шкіряний мішок з трубою, через яку вдувають повітр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Чим дорога англійцям дата 23 квітня 1564 р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. Популярна в 1960-і роки музична груп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. Офіційна резиденція британської королівської сім'ї в Лондон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VE A LITTLE 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2529000" y="1600200"/>
            <a:ext cx="4084560" cy="4896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755640" y="692280"/>
            <a:ext cx="7561440" cy="63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Як зламати англійську мов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1. 50 000 слі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ція, -сія ---- змінюємо на –ш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иняток – 50 слі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ліція, дистанція, конференція, тенденція, гравитаці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2. 10 000 слів: -гія ----- -д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иняток – 50 слі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елігія, магі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0 000 схожих слі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Рисунок 1" descr=""/>
          <p:cNvPicPr/>
          <p:nvPr/>
        </p:nvPicPr>
        <p:blipFill>
          <a:blip r:embed="rId1"/>
          <a:stretch/>
        </p:blipFill>
        <p:spPr>
          <a:xfrm>
            <a:off x="246240" y="1460520"/>
            <a:ext cx="8651520" cy="48560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Группа 1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Рисунок 1" descr=""/>
          <p:cNvPicPr/>
          <p:nvPr/>
        </p:nvPicPr>
        <p:blipFill>
          <a:blip r:embed="rId1"/>
          <a:stretch/>
        </p:blipFill>
        <p:spPr>
          <a:xfrm>
            <a:off x="538200" y="1422360"/>
            <a:ext cx="80676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руппа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Рисунок 2" descr=""/>
          <p:cNvPicPr/>
          <p:nvPr/>
        </p:nvPicPr>
        <p:blipFill>
          <a:blip r:embed="rId1"/>
          <a:stretch/>
        </p:blipFill>
        <p:spPr>
          <a:xfrm>
            <a:off x="279360" y="1413000"/>
            <a:ext cx="8748720" cy="49100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345440" cy="4824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3116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Arial"/>
              </a:rPr>
              <a:t>Good Job!!!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Группа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Рисунок 1" descr=""/>
          <p:cNvPicPr/>
          <p:nvPr/>
        </p:nvPicPr>
        <p:blipFill>
          <a:blip r:embed="rId1"/>
          <a:stretch/>
        </p:blipFill>
        <p:spPr>
          <a:xfrm>
            <a:off x="520560" y="1268280"/>
            <a:ext cx="82105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633564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1"/>
          <p:cNvSpPr/>
          <p:nvPr/>
        </p:nvSpPr>
        <p:spPr>
          <a:xfrm>
            <a:off x="1476360" y="620640"/>
            <a:ext cx="633564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% английскої – це ФРАЗИ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yourself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are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luc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c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you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glish T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Объект 3" descr=""/>
          <p:cNvPicPr/>
          <p:nvPr/>
        </p:nvPicPr>
        <p:blipFill>
          <a:blip r:embed="rId1"/>
          <a:stretch/>
        </p:blipFill>
        <p:spPr>
          <a:xfrm>
            <a:off x="1023840" y="1600200"/>
            <a:ext cx="709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Объект 5" descr=""/>
          <p:cNvPicPr/>
          <p:nvPr/>
        </p:nvPicPr>
        <p:blipFill>
          <a:blip r:embed="rId1"/>
          <a:stretch/>
        </p:blipFill>
        <p:spPr>
          <a:xfrm>
            <a:off x="1547640" y="0"/>
            <a:ext cx="633744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147160" cy="57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екрети Поліглоті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Объект 4" descr=""/>
          <p:cNvPicPr/>
          <p:nvPr/>
        </p:nvPicPr>
        <p:blipFill>
          <a:blip r:embed="rId1"/>
          <a:stretch/>
        </p:blipFill>
        <p:spPr>
          <a:xfrm>
            <a:off x="1285920" y="1120680"/>
            <a:ext cx="66546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лова для відео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fast          Pepper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tchen              Salt                 Apples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sages          Cut                 Bana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king             Sugar             Sp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ying pan         Beans             Bu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                      Eggs               Toa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atoes          Mushro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3033720" y="1959120"/>
            <a:ext cx="307656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92000"/>
            <a:ext cx="7772400" cy="238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English-Speaking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WORLD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вне розмаїття в сучасному світі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 тис. живих м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ільше 90% населення розмовл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є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днією з 25 м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поширеніших мов - 10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п 10 світових мов (більше 100 млн.): китайська, іспанська, англійська (328+), арабська, гінді, бенгальська, португальська, російська, японсь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glish Worl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глійська мова - мова англо-фризької підгрупи західної групи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германської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гілки індоєвропейської мовної сім'ї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над 1,3 млр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лика Британія, США, Австралія, одна з офіційних мов Ірландії (поряд з ірландською), Канади (поряд з французькою) і Мальти (разом з мальтійською), Нової Зеландії (поряд з маорі і жестовою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ОСОБЛИВОСТІ ВИВЧЕННЯ МОВИ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юдина навчається мові в ранньому віці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лодіння мовою - несвідом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має нічого складнішого за мов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гадка появи мов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розуміти, як будується мова - завдання того, хто її вивчає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6" descr="Картинки по запросу &quot;грамматика английского&quot;"/>
          <p:cNvPicPr/>
          <p:nvPr/>
        </p:nvPicPr>
        <p:blipFill>
          <a:blip r:embed="rId1"/>
          <a:stretch/>
        </p:blipFill>
        <p:spPr>
          <a:xfrm>
            <a:off x="4788000" y="4221000"/>
            <a:ext cx="41623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96400" y="10177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поваг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ука (доступ до інформації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едеври в оригінал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зширення кругоз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ідвищити рівень дох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орожува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ти прикладом для дити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робіть англійську своїм хобі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935600" y="1017720"/>
            <a:ext cx="36050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760" y="56628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Let’s start!!!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2448000" y="2205000"/>
            <a:ext cx="42465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2"/>
          <p:cNvSpPr/>
          <p:nvPr/>
        </p:nvSpPr>
        <p:spPr>
          <a:xfrm>
            <a:off x="684360" y="549360"/>
            <a:ext cx="814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glish World (Immers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іцтурні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Хто сидів на чолі лицарського «круглого столу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Житло легендарного чудовиська в Шотланді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З яких палат складається Британський парламен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У що грають на знаменитому Вімблдонському турнірі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В якому лондонському парку знаходиться «куточок оратора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1"/>
          <p:cNvSpPr/>
          <p:nvPr/>
        </p:nvSpPr>
        <p:spPr>
          <a:xfrm>
            <a:off x="870120" y="709560"/>
            <a:ext cx="7777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4:51:22Z</dcterms:created>
  <dc:creator>*****</dc:creator>
  <dc:description/>
  <dc:language>en-US</dc:language>
  <cp:lastModifiedBy>Пользователь Windows</cp:lastModifiedBy>
  <dcterms:modified xsi:type="dcterms:W3CDTF">2020-04-13T12:41:42Z</dcterms:modified>
  <cp:revision>88</cp:revision>
  <dc:subject/>
  <dc:title>Теоретическая грамматика   4 курс</dc:title>
</cp:coreProperties>
</file>