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FEC-707B-4C32-AC0E-2D8EE92B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364-1E97-45E9-AE22-94A93F5F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7426-887B-4C10-A382-A82F0552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394-1D19-43B7-9FF7-5DB3E895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1397-DB93-43BF-A54B-A2FC1C83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2E6A-3AA8-4EDA-8DA9-BF000EF2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4B68-632E-4283-B21B-E2FE3030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293C-781E-49D1-B298-194377F8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88BA-1FCC-49BB-BF69-215D21E5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DB4D-928E-49FE-9158-BC404B41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E1C4-DD35-47E3-B97A-EE128EE0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63A-CA9D-426A-9A05-380E4A93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1451-DB47-4A37-9A36-0AF1D4A4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DC83-15DE-4FB6-97E0-5ECF0840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A935-A128-445D-99CB-0C2E8442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56B0-8325-4D0D-9B9D-003F7DEA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EB9D-7648-4811-BCFA-E17B6B0E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108-3D3B-4CFC-912B-AC9FE690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EFF-4049-4BC8-BDB6-1709A566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AB0-A53A-46A8-A7F9-3878EF9B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469-77BF-4668-B12E-3B21242D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5A0-901F-400C-9524-BCB440D5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1CD-6F40-4B77-85B6-D29D194B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DE4-54B8-4D7D-80AE-C4D9783C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7656-A0D6-42D3-AFDA-2F51FBDFB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3ED6-F36B-4335-8A9B-FC7C2F89B8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lcome to English Commun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82296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довжуємо??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994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ліцтурнір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Чим такий пам'ятний для Лондона 1666р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Музикальний інструмент, який представляє собою шкіряний мішок з трубою, через яку вдувають повітр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Чим дорога англійцям дата 23 квітня 1564 р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Популярна в 1960-і роки музична груп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. Офіційна резиденція британської королівської сім'ї в Лондон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VE A LITTLE 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2529000" y="1600200"/>
            <a:ext cx="4084560" cy="4896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755640" y="692280"/>
            <a:ext cx="7561440" cy="63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к зламати англійську мов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1. 50 000 слі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ція, -сія ---- змінюємо на –ш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иняток – 50 слі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ліція, дистанція, конференція, тенденція, гравитаці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. 10 000 слів: -гія ----- -д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иняток – 50 слі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елігія, маг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0 000 схожих слі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Рисунок 1" descr=""/>
          <p:cNvPicPr/>
          <p:nvPr/>
        </p:nvPicPr>
        <p:blipFill>
          <a:blip r:embed="rId1"/>
          <a:stretch/>
        </p:blipFill>
        <p:spPr>
          <a:xfrm>
            <a:off x="246240" y="1460520"/>
            <a:ext cx="8651520" cy="48560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Группа 1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538200" y="1422360"/>
            <a:ext cx="8067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руппа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Рисунок 2" descr=""/>
          <p:cNvPicPr/>
          <p:nvPr/>
        </p:nvPicPr>
        <p:blipFill>
          <a:blip r:embed="rId1"/>
          <a:stretch/>
        </p:blipFill>
        <p:spPr>
          <a:xfrm>
            <a:off x="279360" y="1413000"/>
            <a:ext cx="8748720" cy="49100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345440" cy="4824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3116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Arial"/>
              </a:rPr>
              <a:t>Good Job!!!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Группа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Рисунок 1" descr=""/>
          <p:cNvPicPr/>
          <p:nvPr/>
        </p:nvPicPr>
        <p:blipFill>
          <a:blip r:embed="rId1"/>
          <a:stretch/>
        </p:blipFill>
        <p:spPr>
          <a:xfrm>
            <a:off x="520560" y="1268280"/>
            <a:ext cx="8210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633564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1"/>
          <p:cNvSpPr/>
          <p:nvPr/>
        </p:nvSpPr>
        <p:spPr>
          <a:xfrm>
            <a:off x="1476360" y="620640"/>
            <a:ext cx="633564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% английскої – це ФРАЗИ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yourself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are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luc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c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you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glish T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Объект 3" descr=""/>
          <p:cNvPicPr/>
          <p:nvPr/>
        </p:nvPicPr>
        <p:blipFill>
          <a:blip r:embed="rId1"/>
          <a:stretch/>
        </p:blipFill>
        <p:spPr>
          <a:xfrm>
            <a:off x="1023840" y="1600200"/>
            <a:ext cx="709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Объект 5" descr=""/>
          <p:cNvPicPr/>
          <p:nvPr/>
        </p:nvPicPr>
        <p:blipFill>
          <a:blip r:embed="rId1"/>
          <a:stretch/>
        </p:blipFill>
        <p:spPr>
          <a:xfrm>
            <a:off x="1547640" y="0"/>
            <a:ext cx="633744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147160" cy="57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екрети Поліглоті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Объект 4" descr=""/>
          <p:cNvPicPr/>
          <p:nvPr/>
        </p:nvPicPr>
        <p:blipFill>
          <a:blip r:embed="rId1"/>
          <a:stretch/>
        </p:blipFill>
        <p:spPr>
          <a:xfrm>
            <a:off x="1285920" y="1120680"/>
            <a:ext cx="66546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ова для відео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fast          Pepper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tchen              Salt                 Apples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sages          Cut                 Bana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king             Sugar             Sp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ying pan         Beans             Bu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                     Eggs               To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atoes          Mushro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3033720" y="1959120"/>
            <a:ext cx="307656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English-Speaking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WORL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вне розмаїття в сучасному світі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 тис. живих м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ільше 90% населення розмовл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є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днією з 25 м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поширеніших мов - 1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п 10 світових мов (більше 100 млн.): китайська, іспанська, англійська (328+), арабська, гінді, бенгальська, португальська, російська, японсь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glish Worl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глійська мова - мова англо-фризької підгрупи західної групи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германської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ілки індоєвропейської мовної сім'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над 1,3 млр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лика Британія, США, Австралія, одна з офіційних мов Ірландії (поряд з ірландською), Канади (поряд з французькою) і Мальти (разом з мальтійською), Нової Зеландії (поряд з маорі і жестовою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ОСОБЛИВОСТІ ВИВЧЕННЯ МОВИ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юдина навчається мові в ранньому віці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лодіння мовою - несвідом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має нічого складнішого за мов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адка появи мов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розуміти, як будується мова - завдання того, хто її вивчає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Картинки по запросу &quot;грамматика английского&quot;"/>
          <p:cNvPicPr/>
          <p:nvPr/>
        </p:nvPicPr>
        <p:blipFill>
          <a:blip r:embed="rId1"/>
          <a:stretch/>
        </p:blipFill>
        <p:spPr>
          <a:xfrm>
            <a:off x="4788000" y="4221000"/>
            <a:ext cx="41623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96400" y="1017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поваг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ука (доступ до інформації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едеври в оригінал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зширення кругоз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ідвищити рівень дох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орожув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ти прикладом для дит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робіть англійську своїм хобі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935600" y="1017720"/>
            <a:ext cx="36050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760" y="56628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Let’s start!!!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2448000" y="2205000"/>
            <a:ext cx="42465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2"/>
          <p:cNvSpPr/>
          <p:nvPr/>
        </p:nvSpPr>
        <p:spPr>
          <a:xfrm>
            <a:off x="684360" y="549360"/>
            <a:ext cx="814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glish World (Immer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іцтурні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Хто сидів на чолі лицарського «круглого столу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тло легендарного чудовиська в Шотланді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З яких палат складається Британський парламен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У що грають на знаменитому Вімблдонському турнірі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В якому лондонському парку знаходиться «куточок оратор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870120" y="709560"/>
            <a:ext cx="7777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4:51:22Z</dcterms:created>
  <dc:creator>*****</dc:creator>
  <dc:description/>
  <dc:language>en-US</dc:language>
  <cp:lastModifiedBy>Пользователь Windows</cp:lastModifiedBy>
  <dcterms:modified xsi:type="dcterms:W3CDTF">2020-04-13T12:41:42Z</dcterms:modified>
  <cp:revision>88</cp:revision>
  <dc:subject/>
  <dc:title>Теоретическая грамматика   4 курс</dc:title>
</cp:coreProperties>
</file>